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974F-F042-48C5-AE59-B21D87ED08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A90-0EFF-4DE7-834D-9523927689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4289-E8B4-417F-8F9F-6EB9D7C76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BCE-A736-44DF-BEFC-DDA92FC0A7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8C09-8291-46F6-84B3-682400EFE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A801-B46E-4AEC-966C-7057D8D411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5F38-C627-40E7-8DFC-807B55C196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7417-CE0E-44D9-AA92-532E481B9F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3396-1CCE-474A-B6C5-FF0A3A31FF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ва – в настоящее время лицензирование осуществляется в отношении всех видов отходов производства и потребления 1-4 класса опасности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бор, транспортировка, использование были исключены из видов деятельности, подлежащих лицензированию. В то же время в законодательстве в области охраны окружающей среды не установлены четкие требования к хозяйствующим субъектам, осуществляющих исключенные из лицензируемых вид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а – предлагается оставить лицензируемыми видами деятельности только обезвреживание и размещение отходов производства 1-4 класса опасности. Для всех видов обращения с отходами потребления предлагается установить институт саморегул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F47-F067-4D07-8A02-90C6907DEE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067-5DBA-4B73-B95A-7D53F7BC2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30D-8114-4C23-B8CD-AA238D1E0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3D2-0E5D-43DD-BF93-DCC33289E4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1A3-3C05-46AD-97B6-2E273516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68E3-8004-435A-B31C-41525CD9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BC8-F3BC-413E-BB49-ABB705AE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835-23BC-4AF2-BDD9-575E61A4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82E-B807-4942-AFFD-722D28B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377-103F-439D-96B7-889F2FC1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E55-E0E5-40EF-9F0C-AF11B78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B40-9F17-4FFE-BEA6-356E1FD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9BF-AEC2-402A-8262-49A2379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73A-3A90-4834-B38A-65FDFF30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434-5BA3-4209-A604-23E11DB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3DD-4E81-4E42-BB80-86616F7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081-2EE3-4AAF-AEB9-FA1FB85983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D67-007D-4E0B-AAE5-9C3B38803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6"/>
          <p:cNvSpPr/>
          <p:nvPr/>
        </p:nvSpPr>
        <p:spPr>
          <a:xfrm>
            <a:off x="0" y="573264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611280" y="1946160"/>
            <a:ext cx="82087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ФЕДЕРАЛЬНОМ 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9.12.2014 № 458-ФЗ «О внесении изменений в Федеральный закон «Об отходах производства и потреб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РЕАЛИЗАЦИИ   ЕГО  ПО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части компетенции Минприроды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0" y="11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и н и с т е р с т в о   п р и р о д н ы х    р е с у р с о в    и    э к о л о г 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 о с с и й с к о й    Ф е д е р а ц 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1"/>
          <p:cNvSpPr/>
          <p:nvPr/>
        </p:nvSpPr>
        <p:spPr>
          <a:xfrm>
            <a:off x="0" y="84960"/>
            <a:ext cx="9144000" cy="132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 утверждении порядка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кларирования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производителями, импортерами готовых товаров количества выпущенных в обращение на территории Российской Федерации за предыдущий календарный год товаров, в том числе упаковки таки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CA0-B173-487A-9BA2-147D63DA3253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0" y="206064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ходные данные для декла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КОТЯ\Рабочий стол\знак.png"/>
          <p:cNvPicPr/>
          <p:nvPr/>
        </p:nvPicPr>
        <p:blipFill>
          <a:blip r:embed="rId1"/>
          <a:stretch/>
        </p:blipFill>
        <p:spPr>
          <a:xfrm>
            <a:off x="324000" y="61657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0"/>
          <p:cNvSpPr/>
          <p:nvPr/>
        </p:nvSpPr>
        <p:spPr>
          <a:xfrm>
            <a:off x="755640" y="60530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яется самостоятельно каждым производителем, импорт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6"/>
          <p:cNvSpPr/>
          <p:nvPr/>
        </p:nvSpPr>
        <p:spPr>
          <a:xfrm>
            <a:off x="0" y="595008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0" y="158904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– 22.10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6021360" y="261144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ПОР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1"/>
          <p:cNvSpPr/>
          <p:nvPr/>
        </p:nvSpPr>
        <p:spPr>
          <a:xfrm>
            <a:off x="1183320" y="261144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2"/>
          <p:cNvSpPr/>
          <p:nvPr/>
        </p:nvSpPr>
        <p:spPr>
          <a:xfrm>
            <a:off x="4716360" y="2611440"/>
            <a:ext cx="0" cy="1800360"/>
          </a:xfrm>
          <a:prstGeom prst="line">
            <a:avLst/>
          </a:prstGeom>
          <a:ln w="25560">
            <a:solidFill>
              <a:srgbClr val="4a7eb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3"/>
          <p:cNvSpPr/>
          <p:nvPr/>
        </p:nvSpPr>
        <p:spPr>
          <a:xfrm>
            <a:off x="179280" y="297036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е первичного учета количества выпущенных в обращение на территории РФ готовых товаров, а также количества упаковки, использованной для производства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4"/>
          <p:cNvSpPr/>
          <p:nvPr/>
        </p:nvSpPr>
        <p:spPr>
          <a:xfrm>
            <a:off x="4932360" y="29480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е таможенной декларации о количестве ввозимых товаров, а также количества упаковки, использованной для ввозимого тов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5"/>
          <p:cNvSpPr/>
          <p:nvPr/>
        </p:nvSpPr>
        <p:spPr>
          <a:xfrm>
            <a:off x="0" y="461340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ларация представляется в территориальные органы Росприроднадз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6"/>
          <p:cNvSpPr/>
          <p:nvPr/>
        </p:nvSpPr>
        <p:spPr>
          <a:xfrm>
            <a:off x="0" y="5157720"/>
            <a:ext cx="7128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ок представления декларации – ежегодно до 1 апр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"/>
          <p:cNvSpPr/>
          <p:nvPr/>
        </p:nvSpPr>
        <p:spPr>
          <a:xfrm>
            <a:off x="250920" y="-24120"/>
            <a:ext cx="8713800" cy="711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 утверждении Порядка самостоятельной утилизации производителями, импортерами отходов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4"/>
          <p:cNvSpPr/>
          <p:nvPr/>
        </p:nvSpPr>
        <p:spPr>
          <a:xfrm>
            <a:off x="395280" y="4365720"/>
            <a:ext cx="431640" cy="4316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7"/>
          <p:cNvSpPr/>
          <p:nvPr/>
        </p:nvSpPr>
        <p:spPr>
          <a:xfrm>
            <a:off x="395280" y="3284640"/>
            <a:ext cx="431640" cy="4316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7"/>
          <p:cNvSpPr/>
          <p:nvPr/>
        </p:nvSpPr>
        <p:spPr>
          <a:xfrm>
            <a:off x="395280" y="5516640"/>
            <a:ext cx="431640" cy="43344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7010280" y="64864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BD5-5B35-46DC-BA5B-1A128D6CEFA7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971640" y="306864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 собственных объектов инфраструктуры по сбору, обработке, утилизации отходов от использования товаров непосредственно самими производителями, импортерами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971640" y="4221000"/>
            <a:ext cx="81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лючение договоров с оператором по обращению с ТКО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*, региональным оператором по обращению с 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971640" y="522936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ие или вступление в объединение (союз) производителей, импортеров товаров, которое заключает договор с оператором по обращению с ТКО, региональным оператором по обращению с 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5336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-3240" y="655020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ТКО – твердые коммунальные отх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4"/>
          <p:cNvSpPr/>
          <p:nvPr/>
        </p:nvSpPr>
        <p:spPr>
          <a:xfrm>
            <a:off x="0" y="112536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– 30.06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5"/>
          <p:cNvSpPr/>
          <p:nvPr/>
        </p:nvSpPr>
        <p:spPr>
          <a:xfrm>
            <a:off x="0" y="249228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усматривает три формы действ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6"/>
          <p:cNvSpPr/>
          <p:nvPr/>
        </p:nvSpPr>
        <p:spPr>
          <a:xfrm>
            <a:off x="0" y="184464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торно внесен 01.10.2015 (доработан по замечаниям Правительства РФ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1"/>
          <p:cNvSpPr/>
          <p:nvPr/>
        </p:nvSpPr>
        <p:spPr>
          <a:xfrm>
            <a:off x="0" y="84960"/>
            <a:ext cx="9144000" cy="1321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 утверждении порядка и формы представления производителями, импортерами товаров, подлежащих утилизации после утраты ими потребительских свойств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етности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 выполнении нормативов утилизации таких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6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CB97-C5EC-49F3-8FD2-0C5EC3533C6C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0" y="3068640"/>
            <a:ext cx="91440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уск в обращение готовых товаров на территории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250920" y="3500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пля-продажа и иные способы передачи товаров, в том числе упаковки, от их производителей или импортеров к индивидуальным предпринимателям, юридическим и физическим лиц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Documents and Settings\КОТЯ\Рабочий стол\знак.png"/>
          <p:cNvPicPr/>
          <p:nvPr/>
        </p:nvPicPr>
        <p:blipFill>
          <a:blip r:embed="rId1"/>
          <a:stretch/>
        </p:blipFill>
        <p:spPr>
          <a:xfrm>
            <a:off x="250920" y="59641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0"/>
          <p:cNvSpPr/>
          <p:nvPr/>
        </p:nvSpPr>
        <p:spPr>
          <a:xfrm>
            <a:off x="611280" y="6004080"/>
            <a:ext cx="83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 при самостоятельном исполнении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0" y="4724280"/>
            <a:ext cx="9144000" cy="916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ность представляется в территориальные органы  Росприроднадзора по каждому наименованию товаров из распоряжения Правительства РФ от 24.09.2015 № 1886-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16"/>
          <p:cNvSpPr/>
          <p:nvPr/>
        </p:nvSpPr>
        <p:spPr>
          <a:xfrm>
            <a:off x="0" y="587700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Documents and Settings\КОТЯ\Рабочий стол\знак.png"/>
          <p:cNvPicPr/>
          <p:nvPr/>
        </p:nvPicPr>
        <p:blipFill>
          <a:blip r:embed="rId2"/>
          <a:stretch/>
        </p:blipFill>
        <p:spPr>
          <a:xfrm>
            <a:off x="250920" y="6308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8"/>
          <p:cNvSpPr/>
          <p:nvPr/>
        </p:nvSpPr>
        <p:spPr>
          <a:xfrm>
            <a:off x="611280" y="63403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ием (союзом) по каждому производителю, импор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1"/>
          <p:cNvSpPr/>
          <p:nvPr/>
        </p:nvSpPr>
        <p:spPr>
          <a:xfrm>
            <a:off x="0" y="1619280"/>
            <a:ext cx="91440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– 08.09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http://myprofitinvest.ru/wp-content/uploads/2014/12/galochka1.png"/>
          <p:cNvPicPr/>
          <p:nvPr/>
        </p:nvPicPr>
        <p:blipFill>
          <a:blip r:embed="rId3"/>
          <a:stretch/>
        </p:blipFill>
        <p:spPr>
          <a:xfrm>
            <a:off x="324000" y="2205000"/>
            <a:ext cx="392040" cy="432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244" name="Прямоугольник 24"/>
          <p:cNvSpPr/>
          <p:nvPr/>
        </p:nvSpPr>
        <p:spPr>
          <a:xfrm>
            <a:off x="755640" y="2133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ой отчетный документ  - акт приема-передачи отходов от использования товара на утилиз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DA66-F855-484A-8F02-535038E39326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"/>
          <p:cNvSpPr/>
          <p:nvPr/>
        </p:nvSpPr>
        <p:spPr>
          <a:xfrm>
            <a:off x="0" y="64440"/>
            <a:ext cx="9144000" cy="40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 ПОРЯДКЕ ВЗИМАНИЯ ЭКОЛОГИЧЕСКОГО СБ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6"/>
          <p:cNvSpPr/>
          <p:nvPr/>
        </p:nvSpPr>
        <p:spPr>
          <a:xfrm>
            <a:off x="0" y="54936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3"/>
          <p:cNvSpPr/>
          <p:nvPr/>
        </p:nvSpPr>
        <p:spPr>
          <a:xfrm>
            <a:off x="0" y="5600880"/>
            <a:ext cx="914400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четным периодом по экологическому сбору (начиная с отчетности за 2016 год) признается календар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4"/>
          <p:cNvSpPr/>
          <p:nvPr/>
        </p:nvSpPr>
        <p:spPr>
          <a:xfrm>
            <a:off x="0" y="652320"/>
            <a:ext cx="9144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вержден постановлением Правительства РФ о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8.10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№ 10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6"/>
          <p:cNvSpPr/>
          <p:nvPr/>
        </p:nvSpPr>
        <p:spPr>
          <a:xfrm>
            <a:off x="611280" y="1844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сбор рассчитывается посредством умножения ставки экологического сбора на массу готового товара или на количество единиц подлежащего утилизации готового товара (в зависимости от вида товаров), выпущенного в обращение на территории Российской Федерации, либо на массу упаковки, использованной для производства такого товара, и на норматив утилизации, выраженный в относительных единиц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7"/>
          <p:cNvSpPr/>
          <p:nvPr/>
        </p:nvSpPr>
        <p:spPr>
          <a:xfrm>
            <a:off x="611280" y="3716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й сбор в отношении товаров, которые подлежат утилизации и вывозятся из Российской Федерации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упла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0" y="1373040"/>
            <a:ext cx="651672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верждены правила взимания экологического с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КОТЯ\Рабочий стол\знак.png"/>
          <p:cNvPicPr/>
          <p:nvPr/>
        </p:nvPicPr>
        <p:blipFill>
          <a:blip r:embed="rId1"/>
          <a:stretch/>
        </p:blipFill>
        <p:spPr>
          <a:xfrm>
            <a:off x="179280" y="234936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Documents and Settings\КОТЯ\Рабочий стол\знак.png"/>
          <p:cNvPicPr/>
          <p:nvPr/>
        </p:nvPicPr>
        <p:blipFill>
          <a:blip r:embed="rId2"/>
          <a:stretch/>
        </p:blipFill>
        <p:spPr>
          <a:xfrm>
            <a:off x="179280" y="3716280"/>
            <a:ext cx="432000" cy="4334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1"/>
          <p:cNvSpPr/>
          <p:nvPr/>
        </p:nvSpPr>
        <p:spPr>
          <a:xfrm>
            <a:off x="611280" y="44496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имание экологического сбора, контроль за правильностью исчисления, полнотой и своевременностью его уплаты осуществляет Федеральная служба по надзору в сфере природо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КОТЯ\Рабочий стол\знак.png"/>
          <p:cNvPicPr/>
          <p:nvPr/>
        </p:nvPicPr>
        <p:blipFill>
          <a:blip r:embed="rId3"/>
          <a:stretch/>
        </p:blipFill>
        <p:spPr>
          <a:xfrm>
            <a:off x="179280" y="4581360"/>
            <a:ext cx="43200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82"/>
          <p:cNvSpPr/>
          <p:nvPr/>
        </p:nvSpPr>
        <p:spPr>
          <a:xfrm>
            <a:off x="2925720" y="3425760"/>
            <a:ext cx="617760" cy="290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82"/>
          <p:cNvSpPr/>
          <p:nvPr/>
        </p:nvSpPr>
        <p:spPr>
          <a:xfrm>
            <a:off x="4386240" y="927000"/>
            <a:ext cx="1728720" cy="358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Группа 58"/>
          <p:cNvGrpSpPr/>
          <p:nvPr/>
        </p:nvGrpSpPr>
        <p:grpSpPr>
          <a:xfrm>
            <a:off x="303120" y="1131840"/>
            <a:ext cx="1389240" cy="689040"/>
            <a:chOff x="303120" y="1131840"/>
            <a:chExt cx="1389240" cy="689040"/>
          </a:xfrm>
        </p:grpSpPr>
        <p:sp>
          <p:nvSpPr>
            <p:cNvPr id="260" name="Прямоугольник 82"/>
            <p:cNvSpPr/>
            <p:nvPr/>
          </p:nvSpPr>
          <p:spPr>
            <a:xfrm>
              <a:off x="364680" y="1184040"/>
              <a:ext cx="1276560" cy="31104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оугольник 82"/>
            <p:cNvSpPr/>
            <p:nvPr/>
          </p:nvSpPr>
          <p:spPr>
            <a:xfrm>
              <a:off x="364680" y="1492200"/>
              <a:ext cx="1276560" cy="31104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мпорте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оугольник 82"/>
            <p:cNvSpPr/>
            <p:nvPr/>
          </p:nvSpPr>
          <p:spPr>
            <a:xfrm>
              <a:off x="303120" y="1131840"/>
              <a:ext cx="1389240" cy="689040"/>
            </a:xfrm>
            <a:prstGeom prst="rect">
              <a:avLst/>
            </a:prstGeom>
            <a:noFill/>
            <a:ln w="9360">
              <a:solidFill>
                <a:srgbClr val="4f81b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Прямоугольник 18"/>
          <p:cNvSpPr/>
          <p:nvPr/>
        </p:nvSpPr>
        <p:spPr>
          <a:xfrm>
            <a:off x="2733120" y="790560"/>
            <a:ext cx="1061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А Э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19"/>
          <p:cNvCxnSpPr>
            <a:stCxn id="258" idx="3"/>
            <a:endCxn id="265" idx="1"/>
          </p:cNvCxnSpPr>
          <p:nvPr/>
        </p:nvCxnSpPr>
        <p:spPr>
          <a:xfrm flipV="1">
            <a:off x="6114960" y="1105920"/>
            <a:ext cx="72144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65" name="Прямоугольник 82"/>
          <p:cNvSpPr/>
          <p:nvPr/>
        </p:nvSpPr>
        <p:spPr>
          <a:xfrm>
            <a:off x="6835680" y="927000"/>
            <a:ext cx="1954440" cy="358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бюдж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6218640" y="720720"/>
            <a:ext cx="48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Группа 34"/>
          <p:cNvGrpSpPr/>
          <p:nvPr/>
        </p:nvGrpSpPr>
        <p:grpSpPr>
          <a:xfrm>
            <a:off x="6948360" y="1903320"/>
            <a:ext cx="1944720" cy="1235160"/>
            <a:chOff x="6948360" y="1903320"/>
            <a:chExt cx="1944720" cy="1235160"/>
          </a:xfrm>
        </p:grpSpPr>
        <p:sp>
          <p:nvSpPr>
            <p:cNvPr id="268" name="Прямоугольник 82"/>
            <p:cNvSpPr/>
            <p:nvPr/>
          </p:nvSpPr>
          <p:spPr>
            <a:xfrm>
              <a:off x="7164000" y="2417760"/>
              <a:ext cx="1729080" cy="720720"/>
            </a:xfrm>
            <a:prstGeom prst="rect">
              <a:avLst/>
            </a:prstGeom>
            <a:noFill/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оугольник 82"/>
            <p:cNvSpPr/>
            <p:nvPr/>
          </p:nvSpPr>
          <p:spPr>
            <a:xfrm>
              <a:off x="6948360" y="1903320"/>
              <a:ext cx="1728720" cy="72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с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Прямая со стрелкой 35"/>
          <p:cNvCxnSpPr>
            <a:stCxn id="265" idx="2"/>
            <a:endCxn id="269" idx="0"/>
          </p:cNvCxnSpPr>
          <p:nvPr/>
        </p:nvCxnSpPr>
        <p:spPr>
          <a:xfrm flipH="1">
            <a:off x="7811280" y="1285560"/>
            <a:ext cx="1080" cy="618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Соединительная линия уступом 77"/>
          <p:cNvCxnSpPr>
            <a:stCxn id="268" idx="1"/>
            <a:endCxn id="272" idx="3"/>
          </p:cNvCxnSpPr>
          <p:nvPr/>
        </p:nvCxnSpPr>
        <p:spPr>
          <a:xfrm flipV="1" rot="10800000">
            <a:off x="6568200" y="2777040"/>
            <a:ext cx="596160" cy="3960"/>
          </a:xfrm>
          <a:prstGeom prst="bentConnector3">
            <a:avLst>
              <a:gd name="adj1" fmla="val 49969"/>
            </a:avLst>
          </a:prstGeom>
          <a:ln w="381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73" name="Прямоугольник 84"/>
          <p:cNvSpPr/>
          <p:nvPr/>
        </p:nvSpPr>
        <p:spPr>
          <a:xfrm>
            <a:off x="6732720" y="1338120"/>
            <a:ext cx="1295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82"/>
          <p:cNvSpPr/>
          <p:nvPr/>
        </p:nvSpPr>
        <p:spPr>
          <a:xfrm>
            <a:off x="200160" y="3375000"/>
            <a:ext cx="8908920" cy="27388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нансирование региональных программ в области обращения с отходами и территориальных схем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крытие расходов по сбору, транспортированию, обработке, утилизации отходов от использования тов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крытие дефицита средств, поступающих в счет оплаты населением услуги по обращению с твердыми коммунальными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полнение инженерных изысканий, подготовку проектной документации для строительства объектов, используемых для обработки, утилизации отходов, объектов обезвреживания отходов, на строительство и оснащение таких о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Соединительная линия уступом 77"/>
          <p:cNvCxnSpPr>
            <a:stCxn id="272" idx="1"/>
            <a:endCxn id="274" idx="0"/>
          </p:cNvCxnSpPr>
          <p:nvPr/>
        </p:nvCxnSpPr>
        <p:spPr>
          <a:xfrm flipV="1" rot="10800000">
            <a:off x="4653720" y="2780280"/>
            <a:ext cx="134280" cy="594360"/>
          </a:xfrm>
          <a:prstGeom prst="bentConnector2">
            <a:avLst/>
          </a:prstGeom>
          <a:ln w="381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76" name="Прямоугольник 82"/>
          <p:cNvSpPr/>
          <p:nvPr/>
        </p:nvSpPr>
        <p:spPr>
          <a:xfrm>
            <a:off x="4386240" y="1698480"/>
            <a:ext cx="1728720" cy="358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Соединительная линия уступом 77"/>
          <p:cNvCxnSpPr>
            <a:stCxn id="262" idx="3"/>
            <a:endCxn id="258" idx="1"/>
          </p:cNvCxnSpPr>
          <p:nvPr/>
        </p:nvCxnSpPr>
        <p:spPr>
          <a:xfrm flipV="1">
            <a:off x="1692000" y="1105920"/>
            <a:ext cx="2694600" cy="370440"/>
          </a:xfrm>
          <a:prstGeom prst="bentConnector3">
            <a:avLst>
              <a:gd name="adj1" fmla="val 15660"/>
            </a:avLst>
          </a:prstGeom>
          <a:ln w="381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78" name="Соединительная линия уступом 77"/>
          <p:cNvCxnSpPr>
            <a:stCxn id="262" idx="3"/>
            <a:endCxn id="276" idx="1"/>
          </p:cNvCxnSpPr>
          <p:nvPr/>
        </p:nvCxnSpPr>
        <p:spPr>
          <a:xfrm>
            <a:off x="1692000" y="1476360"/>
            <a:ext cx="2694600" cy="402480"/>
          </a:xfrm>
          <a:prstGeom prst="bentConnector3">
            <a:avLst>
              <a:gd name="adj1" fmla="val 16007"/>
            </a:avLst>
          </a:prstGeom>
          <a:ln w="381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79" name="Прямоугольник 76"/>
          <p:cNvSpPr/>
          <p:nvPr/>
        </p:nvSpPr>
        <p:spPr>
          <a:xfrm>
            <a:off x="2264760" y="1542960"/>
            <a:ext cx="2056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(до 1 апрел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5"/>
          <p:cNvSpPr/>
          <p:nvPr/>
        </p:nvSpPr>
        <p:spPr>
          <a:xfrm>
            <a:off x="1897920" y="1338120"/>
            <a:ext cx="412920" cy="263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9"/>
          <p:cNvSpPr/>
          <p:nvPr/>
        </p:nvSpPr>
        <p:spPr>
          <a:xfrm>
            <a:off x="0" y="3240"/>
            <a:ext cx="9144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ХЕМА  РАСХОДОВАНИЯ  СРЕДСТВ,  ПОСТУПАЮЩИХ  В  СЧЕТ  УПЛАТЫ ЭКОЛОГИЧЕСКОГО  С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2"/>
          <p:cNvSpPr/>
          <p:nvPr/>
        </p:nvSpPr>
        <p:spPr>
          <a:xfrm>
            <a:off x="4788000" y="2519280"/>
            <a:ext cx="1780920" cy="518040"/>
          </a:xfrm>
          <a:prstGeom prst="rect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м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82"/>
          <p:cNvSpPr/>
          <p:nvPr/>
        </p:nvSpPr>
        <p:spPr>
          <a:xfrm>
            <a:off x="4356000" y="90792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ор экологических сб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РИРОДНАДЗ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19080" y="6491160"/>
            <a:ext cx="292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С – экологический с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1"/>
          <p:cNvSpPr/>
          <p:nvPr/>
        </p:nvSpPr>
        <p:spPr>
          <a:xfrm>
            <a:off x="7010280" y="6491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217-5685-4279-A91A-AFE51718E4F0}" type="slidenum">
              <a:rPr b="1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1"/>
          <p:cNvSpPr/>
          <p:nvPr/>
        </p:nvSpPr>
        <p:spPr>
          <a:xfrm>
            <a:off x="144360" y="-120240"/>
            <a:ext cx="8855280" cy="1320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 порядке создания, эксплуатации и модернизации единой государственной информационной системы учета отходов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(ЕГИС УО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6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8304-6569-4420-9D7C-6211E6449B9B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"/>
          <p:cNvSpPr/>
          <p:nvPr/>
        </p:nvSpPr>
        <p:spPr>
          <a:xfrm>
            <a:off x="684360" y="2133720"/>
            <a:ext cx="826128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втоматизации процессов сбора, обработки, хранения и анализа информации в сфере обращения с отходами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онного обеспечения деятельности по контролю за выполнением нормативов утилизации таких отходов, деятельности ФОИВ, ОИВ субъектов РФ, ОМС,  юридических лиц, индивидуальных предпринимателей и физических лиц в сфере обращения с отходами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министрирования действий всех сторон, вовлеченных в выполнение обязанности производителей, импор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8"/>
          <p:cNvSpPr/>
          <p:nvPr/>
        </p:nvSpPr>
        <p:spPr>
          <a:xfrm>
            <a:off x="0" y="1700280"/>
            <a:ext cx="680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предназначена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КОТЯ\Рабочий стол\знак.png"/>
          <p:cNvPicPr/>
          <p:nvPr/>
        </p:nvPicPr>
        <p:blipFill>
          <a:blip r:embed="rId1"/>
          <a:stretch/>
        </p:blipFill>
        <p:spPr>
          <a:xfrm>
            <a:off x="198360" y="227664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C:\Documents and Settings\КОТЯ\Рабочий стол\знак.png"/>
          <p:cNvPicPr/>
          <p:nvPr/>
        </p:nvPicPr>
        <p:blipFill>
          <a:blip r:embed="rId2"/>
          <a:stretch/>
        </p:blipFill>
        <p:spPr>
          <a:xfrm>
            <a:off x="198360" y="343044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7"/>
          <p:cNvSpPr/>
          <p:nvPr/>
        </p:nvSpPr>
        <p:spPr>
          <a:xfrm>
            <a:off x="250920" y="565164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ор создания, эксплуатации и модернизации ЕГИС УОИТ – Росприроднадз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784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удет создаваться на основе ФГИС ПТК «Госконтрол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23"/>
          <p:cNvSpPr/>
          <p:nvPr/>
        </p:nvSpPr>
        <p:spPr>
          <a:xfrm>
            <a:off x="0" y="558972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КОТЯ\Рабочий стол\знак.png"/>
          <p:cNvPicPr/>
          <p:nvPr/>
        </p:nvPicPr>
        <p:blipFill>
          <a:blip r:embed="rId3"/>
          <a:stretch/>
        </p:blipFill>
        <p:spPr>
          <a:xfrm>
            <a:off x="198360" y="45831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3"/>
          <p:cNvSpPr/>
          <p:nvPr/>
        </p:nvSpPr>
        <p:spPr>
          <a:xfrm>
            <a:off x="0" y="122868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– 11.11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1"/>
          <p:cNvSpPr/>
          <p:nvPr/>
        </p:nvSpPr>
        <p:spPr>
          <a:xfrm>
            <a:off x="0" y="48240"/>
            <a:ext cx="9144000" cy="1931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б утверждении состава, формы, сроков и порядка предоставления статистической и иной документированной информации федеральными органами исполнительной власти, органами исполнительной власти субъектов Российской Федерации, а также юридическими лицами, индивидуальными предпринимателями, осуществляющими деятельность в сфере обращения с отходами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6"/>
          <p:cNvSpPr/>
          <p:nvPr/>
        </p:nvSpPr>
        <p:spPr>
          <a:xfrm>
            <a:off x="-36360" y="2016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D6D-7781-4678-93BE-1192F68E3B0E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3"/>
          <p:cNvSpPr/>
          <p:nvPr/>
        </p:nvSpPr>
        <p:spPr>
          <a:xfrm>
            <a:off x="0" y="2565360"/>
            <a:ext cx="536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тавщики информации в ЕГИС УО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3"/>
          <p:cNvSpPr/>
          <p:nvPr/>
        </p:nvSpPr>
        <p:spPr>
          <a:xfrm>
            <a:off x="684360" y="2924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е органы исполнительной вл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природнадзор, ФАС России, Росстат, Минпромторг России, Федеральное казначейство, иные ФО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4"/>
          <p:cNvSpPr/>
          <p:nvPr/>
        </p:nvSpPr>
        <p:spPr>
          <a:xfrm>
            <a:off x="179280" y="3213000"/>
            <a:ext cx="432000" cy="432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15"/>
          <p:cNvSpPr/>
          <p:nvPr/>
        </p:nvSpPr>
        <p:spPr>
          <a:xfrm>
            <a:off x="684360" y="3860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ы исполнительной власти субъектов Россий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6"/>
          <p:cNvSpPr/>
          <p:nvPr/>
        </p:nvSpPr>
        <p:spPr>
          <a:xfrm>
            <a:off x="179280" y="3860640"/>
            <a:ext cx="432000" cy="432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9"/>
          <p:cNvSpPr/>
          <p:nvPr/>
        </p:nvSpPr>
        <p:spPr>
          <a:xfrm>
            <a:off x="684360" y="4221000"/>
            <a:ext cx="835164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ридические лица, индивидуальные предприниматели, осуществляющие деятельность в сфере обращения с отходами от использования това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роизводители, импортеры товаров, (самостоятельное исполн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, регоператоры по обращению с ТК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*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ия (союзы) производителей, импортеров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0"/>
          <p:cNvSpPr/>
          <p:nvPr/>
        </p:nvSpPr>
        <p:spPr>
          <a:xfrm>
            <a:off x="179280" y="4437000"/>
            <a:ext cx="432000" cy="432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4"/>
          <p:cNvSpPr/>
          <p:nvPr/>
        </p:nvSpPr>
        <p:spPr>
          <a:xfrm>
            <a:off x="0" y="645336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5"/>
          <p:cNvSpPr/>
          <p:nvPr/>
        </p:nvSpPr>
        <p:spPr>
          <a:xfrm>
            <a:off x="5400" y="6519960"/>
            <a:ext cx="37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КО – твердые коммунальные от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7"/>
          <p:cNvSpPr/>
          <p:nvPr/>
        </p:nvSpPr>
        <p:spPr>
          <a:xfrm>
            <a:off x="0" y="211140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 – 18.08.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8"/>
          <p:cNvSpPr/>
          <p:nvPr/>
        </p:nvSpPr>
        <p:spPr>
          <a:xfrm>
            <a:off x="0" y="5837400"/>
            <a:ext cx="91440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верждаются формы документов для представления информации в ЕГИС У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0" y="74880"/>
            <a:ext cx="9144000" cy="712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 требованиях к составу и содержанию территориальных схем обращения с отходами, в том числе с Т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6AAE-C72B-4F9D-8BC4-3020C84ADD8C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24"/>
          <p:cNvSpPr/>
          <p:nvPr/>
        </p:nvSpPr>
        <p:spPr>
          <a:xfrm>
            <a:off x="0" y="645336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25"/>
          <p:cNvSpPr/>
          <p:nvPr/>
        </p:nvSpPr>
        <p:spPr>
          <a:xfrm>
            <a:off x="5400" y="6519960"/>
            <a:ext cx="375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КО – твердые коммунальные отх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17"/>
          <p:cNvSpPr/>
          <p:nvPr/>
        </p:nvSpPr>
        <p:spPr>
          <a:xfrm>
            <a:off x="0" y="981000"/>
            <a:ext cx="91440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 – 30.11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179280" y="1434960"/>
            <a:ext cx="8713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альная схема обращения с отходами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хождение источников образования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оличество образующихся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целевые показатели по утилизации, обезвреживанию и размещению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места сбора и накопления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объекты по обработке, утилизации, обезвреживанию, размещению отходов, в том числе твердых коммунальных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баланс количественных характеристик образования, обработки, утилизации, обезвреживания, размещения отходов, в том числе твердых коммунальных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схема потоков отходов, в том числе твердых коммунальных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направления развития системы организации и осуществления деятельности по сбору, транспортированию, обработке, утилизации, обезвреживанию, размещению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предложения по строительству, реконструкции и модернизации объектов  по обработке, утилизации, обезвреживанию, размещению отходов, в том числе твердых коммунальных отх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при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9"/>
          <p:cNvSpPr/>
          <p:nvPr/>
        </p:nvSpPr>
        <p:spPr>
          <a:xfrm>
            <a:off x="0" y="6021360"/>
            <a:ext cx="914400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жет быть единой для нескольких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2"/>
          <p:cNvSpPr/>
          <p:nvPr/>
        </p:nvSpPr>
        <p:spPr>
          <a:xfrm>
            <a:off x="0" y="5477040"/>
            <a:ext cx="914400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рриториальная схема подлежит согласованию с соответствующим  территориальным органом Росприроднадз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3"/>
          <p:cNvSpPr/>
          <p:nvPr/>
        </p:nvSpPr>
        <p:spPr>
          <a:xfrm>
            <a:off x="0" y="47160"/>
            <a:ext cx="9144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ИСПОЛНЕНИЕ ПЛАНА ПО РЕАЛИЗАЦИИ ФЕДЕРАЛЬНОГО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 29.12.2014 № 458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6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Овал 14"/>
          <p:cNvGrpSpPr/>
          <p:nvPr/>
        </p:nvGrpSpPr>
        <p:grpSpPr>
          <a:xfrm>
            <a:off x="139680" y="944640"/>
            <a:ext cx="804960" cy="804960"/>
            <a:chOff x="139680" y="944640"/>
            <a:chExt cx="804960" cy="804960"/>
          </a:xfrm>
        </p:grpSpPr>
        <p:pic>
          <p:nvPicPr>
            <p:cNvPr id="322" name="Овал 14" descr=""/>
            <p:cNvPicPr/>
            <p:nvPr/>
          </p:nvPicPr>
          <p:blipFill>
            <a:blip r:embed="rId1"/>
            <a:stretch/>
          </p:blipFill>
          <p:spPr>
            <a:xfrm>
              <a:off x="139680" y="944640"/>
              <a:ext cx="8049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0280" y="1069920"/>
              <a:ext cx="5605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ая соединительная линия 2"/>
          <p:cNvSpPr/>
          <p:nvPr/>
        </p:nvSpPr>
        <p:spPr>
          <a:xfrm>
            <a:off x="1008000" y="1457280"/>
            <a:ext cx="5894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971640" y="111600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Console"/>
                <a:ea typeface="Calibri"/>
              </a:rPr>
              <a:t>ПРОЕКТОВ АКТОВ ВНЕСЕНО В ПРАВИТЕЛЬСТВ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8"/>
          <p:cNvSpPr/>
          <p:nvPr/>
        </p:nvSpPr>
        <p:spPr>
          <a:xfrm>
            <a:off x="798480" y="2411280"/>
            <a:ext cx="802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ицензировании деятельности по сбору, транспортированию, обработке, утилизации, обезвреживанию, размещению отходов I – IV классов 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1"/>
          <p:cNvSpPr/>
          <p:nvPr/>
        </p:nvSpPr>
        <p:spPr>
          <a:xfrm>
            <a:off x="793800" y="2997360"/>
            <a:ext cx="61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еречне товаров, включая упаковку, подлежащих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3"/>
          <p:cNvSpPr/>
          <p:nvPr/>
        </p:nvSpPr>
        <p:spPr>
          <a:xfrm>
            <a:off x="782640" y="3716280"/>
            <a:ext cx="720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ормативах утилизации отходов от использования това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7"/>
          <p:cNvSpPr/>
          <p:nvPr/>
        </p:nvSpPr>
        <p:spPr>
          <a:xfrm>
            <a:off x="782640" y="4098960"/>
            <a:ext cx="68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самостоятельной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9"/>
          <p:cNvSpPr/>
          <p:nvPr/>
        </p:nvSpPr>
        <p:spPr>
          <a:xfrm>
            <a:off x="798480" y="3357720"/>
            <a:ext cx="68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взимания экологического с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41"/>
          <p:cNvSpPr/>
          <p:nvPr/>
        </p:nvSpPr>
        <p:spPr>
          <a:xfrm>
            <a:off x="793800" y="4459320"/>
            <a:ext cx="680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форме представления отчетности о выполнении норматив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43"/>
          <p:cNvSpPr/>
          <p:nvPr/>
        </p:nvSpPr>
        <p:spPr>
          <a:xfrm>
            <a:off x="793800" y="5229360"/>
            <a:ext cx="80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, сроках и форме представления информации в ЕГИС УО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3527-A91F-42B4-B096-F8A3353055C8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8" descr="http://ivenue.ru.images.1c-bitrix-cdn.ru/upload/medialibrary/847/84710a5b86e9eab2d5f73a5be991f3fd.png?14255080575257"/>
          <p:cNvPicPr/>
          <p:nvPr/>
        </p:nvPicPr>
        <p:blipFill>
          <a:blip r:embed="rId2"/>
          <a:stretch/>
        </p:blipFill>
        <p:spPr>
          <a:xfrm>
            <a:off x="539640" y="3716280"/>
            <a:ext cx="287280" cy="28908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43"/>
          <p:cNvSpPr/>
          <p:nvPr/>
        </p:nvSpPr>
        <p:spPr>
          <a:xfrm>
            <a:off x="793800" y="5610240"/>
            <a:ext cx="70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требованиях к составу и содержанию территориальных сх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ая соединительная линия 31"/>
          <p:cNvSpPr/>
          <p:nvPr/>
        </p:nvSpPr>
        <p:spPr>
          <a:xfrm>
            <a:off x="0" y="630864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myprofitinvest.ru/wp-content/uploads/2014/12/galochka1.png"/>
          <p:cNvPicPr/>
          <p:nvPr/>
        </p:nvPicPr>
        <p:blipFill>
          <a:blip r:embed="rId3"/>
          <a:stretch/>
        </p:blipFill>
        <p:spPr>
          <a:xfrm>
            <a:off x="179280" y="6381720"/>
            <a:ext cx="392400" cy="432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338" name="Прямоугольник 33"/>
          <p:cNvSpPr/>
          <p:nvPr/>
        </p:nvSpPr>
        <p:spPr>
          <a:xfrm>
            <a:off x="398880" y="6453360"/>
            <a:ext cx="30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рмативный правовой акт приня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http://ivenue.ru.images.1c-bitrix-cdn.ru/upload/medialibrary/847/84710a5b86e9eab2d5f73a5be991f3fd.png?14255080575257"/>
          <p:cNvPicPr/>
          <p:nvPr/>
        </p:nvPicPr>
        <p:blipFill>
          <a:blip r:embed="rId4"/>
          <a:stretch/>
        </p:blipFill>
        <p:spPr>
          <a:xfrm>
            <a:off x="3579840" y="6381720"/>
            <a:ext cx="396720" cy="3952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36"/>
          <p:cNvSpPr/>
          <p:nvPr/>
        </p:nvSpPr>
        <p:spPr>
          <a:xfrm>
            <a:off x="3891960" y="6434280"/>
            <a:ext cx="43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т внесен в Правительство РФ и ожидает прин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8"/>
          <p:cNvSpPr/>
          <p:nvPr/>
        </p:nvSpPr>
        <p:spPr>
          <a:xfrm>
            <a:off x="784080" y="2054160"/>
            <a:ext cx="48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Положение о Минприроды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http://myprofitinvest.ru/wp-content/uploads/2014/12/galochka1.png"/>
          <p:cNvPicPr/>
          <p:nvPr/>
        </p:nvPicPr>
        <p:blipFill>
          <a:blip r:embed="rId5"/>
          <a:stretch/>
        </p:blipFill>
        <p:spPr>
          <a:xfrm>
            <a:off x="539640" y="2492280"/>
            <a:ext cx="262080" cy="289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343" name="Прямоугольник 43"/>
          <p:cNvSpPr/>
          <p:nvPr/>
        </p:nvSpPr>
        <p:spPr>
          <a:xfrm>
            <a:off x="795240" y="4869000"/>
            <a:ext cx="37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создания ЕГИС УО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://myprofitinvest.ru/wp-content/uploads/2014/12/galochka1.png"/>
          <p:cNvPicPr/>
          <p:nvPr/>
        </p:nvPicPr>
        <p:blipFill>
          <a:blip r:embed="rId6"/>
          <a:stretch/>
        </p:blipFill>
        <p:spPr>
          <a:xfrm>
            <a:off x="547560" y="2070000"/>
            <a:ext cx="262080" cy="287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45" name="Picture 2" descr="http://myprofitinvest.ru/wp-content/uploads/2014/12/galochka1.png"/>
          <p:cNvPicPr/>
          <p:nvPr/>
        </p:nvPicPr>
        <p:blipFill>
          <a:blip r:embed="rId7"/>
          <a:stretch/>
        </p:blipFill>
        <p:spPr>
          <a:xfrm>
            <a:off x="539640" y="2997360"/>
            <a:ext cx="262080" cy="287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46" name="Picture 2" descr="http://myprofitinvest.ru/wp-content/uploads/2014/12/galochka1.png"/>
          <p:cNvPicPr/>
          <p:nvPr/>
        </p:nvPicPr>
        <p:blipFill>
          <a:blip r:embed="rId8"/>
          <a:stretch/>
        </p:blipFill>
        <p:spPr>
          <a:xfrm>
            <a:off x="539640" y="3357720"/>
            <a:ext cx="262080" cy="2872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47" name="Picture 8" descr="http://ivenue.ru.images.1c-bitrix-cdn.ru/upload/medialibrary/847/84710a5b86e9eab2d5f73a5be991f3fd.png?14255080575257"/>
          <p:cNvPicPr/>
          <p:nvPr/>
        </p:nvPicPr>
        <p:blipFill>
          <a:blip r:embed="rId9"/>
          <a:stretch/>
        </p:blipFill>
        <p:spPr>
          <a:xfrm>
            <a:off x="539640" y="40766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://ivenue.ru.images.1c-bitrix-cdn.ru/upload/medialibrary/847/84710a5b86e9eab2d5f73a5be991f3fd.png?14255080575257"/>
          <p:cNvPicPr/>
          <p:nvPr/>
        </p:nvPicPr>
        <p:blipFill>
          <a:blip r:embed="rId10"/>
          <a:stretch/>
        </p:blipFill>
        <p:spPr>
          <a:xfrm>
            <a:off x="539640" y="450864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http://ivenue.ru.images.1c-bitrix-cdn.ru/upload/medialibrary/847/84710a5b86e9eab2d5f73a5be991f3fd.png?14255080575257"/>
          <p:cNvPicPr/>
          <p:nvPr/>
        </p:nvPicPr>
        <p:blipFill>
          <a:blip r:embed="rId11"/>
          <a:stretch/>
        </p:blipFill>
        <p:spPr>
          <a:xfrm>
            <a:off x="539640" y="486900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ivenue.ru.images.1c-bitrix-cdn.ru/upload/medialibrary/847/84710a5b86e9eab2d5f73a5be991f3fd.png?14255080575257"/>
          <p:cNvPicPr/>
          <p:nvPr/>
        </p:nvPicPr>
        <p:blipFill>
          <a:blip r:embed="rId12"/>
          <a:stretch/>
        </p:blipFill>
        <p:spPr>
          <a:xfrm>
            <a:off x="539640" y="522936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http://ivenue.ru.images.1c-bitrix-cdn.ru/upload/medialibrary/847/84710a5b86e9eab2d5f73a5be991f3fd.png?14255080575257"/>
          <p:cNvPicPr/>
          <p:nvPr/>
        </p:nvPicPr>
        <p:blipFill>
          <a:blip r:embed="rId13"/>
          <a:stretch/>
        </p:blipFill>
        <p:spPr>
          <a:xfrm>
            <a:off x="539640" y="5589720"/>
            <a:ext cx="28728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3"/>
          <p:cNvSpPr/>
          <p:nvPr/>
        </p:nvSpPr>
        <p:spPr>
          <a:xfrm>
            <a:off x="0" y="47160"/>
            <a:ext cx="9144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БЛИЖАЙШИЕ АКТЫ ПО РЕАЛИЗАЦИИ ФЕДЕРАЛЬНОГО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Т 29.12.2014 № 458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8"/>
          <p:cNvSpPr/>
          <p:nvPr/>
        </p:nvSpPr>
        <p:spPr>
          <a:xfrm>
            <a:off x="395280" y="278136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авках экологического сбора по каждой группе товаров, подлежащих утилизации после утраты ими потребитель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31"/>
          <p:cNvSpPr/>
          <p:nvPr/>
        </p:nvSpPr>
        <p:spPr>
          <a:xfrm>
            <a:off x="395280" y="378936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подтверждения исключения негативного воздействия на окружающую среду объектов размещения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1"/>
          <p:cNvSpPr/>
          <p:nvPr/>
        </p:nvSpPr>
        <p:spPr>
          <a:xfrm>
            <a:off x="7010280" y="6519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957-7CB9-4069-B5CE-263A43C0289F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авая фигурная скобка 30"/>
          <p:cNvSpPr/>
          <p:nvPr/>
        </p:nvSpPr>
        <p:spPr>
          <a:xfrm>
            <a:off x="5796000" y="2708280"/>
            <a:ext cx="504720" cy="3168720"/>
          </a:xfrm>
          <a:custGeom>
            <a:avLst/>
            <a:gdLst>
              <a:gd name="textAreaLeft" fmla="*/ 0 w 504720"/>
              <a:gd name="textAreaRight" fmla="*/ 182160 w 50472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31"/>
          <p:cNvSpPr/>
          <p:nvPr/>
        </p:nvSpPr>
        <p:spPr>
          <a:xfrm>
            <a:off x="623160" y="981000"/>
            <a:ext cx="39510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акта Правительств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2"/>
          <p:cNvSpPr/>
          <p:nvPr/>
        </p:nvSpPr>
        <p:spPr>
          <a:xfrm>
            <a:off x="6744240" y="973080"/>
            <a:ext cx="16164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вне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3"/>
          <p:cNvSpPr/>
          <p:nvPr/>
        </p:nvSpPr>
        <p:spPr>
          <a:xfrm>
            <a:off x="1403280" y="1420920"/>
            <a:ext cx="6085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4"/>
          <p:cNvSpPr/>
          <p:nvPr/>
        </p:nvSpPr>
        <p:spPr>
          <a:xfrm>
            <a:off x="5867280" y="1278000"/>
            <a:ext cx="0" cy="32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250920" y="1484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еречне готовых товаров (продукции) и видов упаковки, после утраты потребительских свойств которых образуются отходы, представленные биоразлагаемыми материа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38"/>
          <p:cNvSpPr/>
          <p:nvPr/>
        </p:nvSpPr>
        <p:spPr>
          <a:xfrm>
            <a:off x="6600600" y="177336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декабря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39"/>
          <p:cNvSpPr/>
          <p:nvPr/>
        </p:nvSpPr>
        <p:spPr>
          <a:xfrm>
            <a:off x="6743520" y="406728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тал 20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40"/>
          <p:cNvSpPr/>
          <p:nvPr/>
        </p:nvSpPr>
        <p:spPr>
          <a:xfrm>
            <a:off x="0" y="6237360"/>
            <a:ext cx="608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41"/>
          <p:cNvSpPr/>
          <p:nvPr/>
        </p:nvSpPr>
        <p:spPr>
          <a:xfrm>
            <a:off x="456120" y="6308640"/>
            <a:ext cx="71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Console"/>
                <a:ea typeface="Calibri"/>
              </a:rPr>
              <a:t>Решение Правительства РФ от 18.11.2015 (АХ-П9-56п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31"/>
          <p:cNvSpPr/>
          <p:nvPr/>
        </p:nvSpPr>
        <p:spPr>
          <a:xfrm>
            <a:off x="395280" y="472752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рядке предоставления из федерального бюджета субсидий субъектам Российской Федерации из средств, поступивших в счет уплаты экологического сбора, на финансирование работ по обращению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6920" y="4340160"/>
            <a:ext cx="3219480" cy="2257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2880"/>
            <a:ext cx="9144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ДИНАМИКА ОБРАЗОВАНИЯ, ИСПОЛЬЗОВАНИЯ И ОБЕЗВРЕЖИВАНИЯ ОТХОДОВ ПРОИЗВОДСТВА И ПОТРЕБЛЕНИЯ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-50400" bIns="-50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47" descr=""/>
          <p:cNvPicPr/>
          <p:nvPr/>
        </p:nvPicPr>
        <p:blipFill>
          <a:blip r:embed="rId2"/>
          <a:stretch/>
        </p:blipFill>
        <p:spPr>
          <a:xfrm>
            <a:off x="250920" y="714240"/>
            <a:ext cx="7654680" cy="3384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81"/>
          <p:cNvSpPr/>
          <p:nvPr/>
        </p:nvSpPr>
        <p:spPr>
          <a:xfrm>
            <a:off x="7394400" y="981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cb4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ие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x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нн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3"/>
          <p:cNvSpPr/>
          <p:nvPr/>
        </p:nvSpPr>
        <p:spPr>
          <a:xfrm>
            <a:off x="7323120" y="2259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пользование и обезвреживание 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x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нн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%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5"/>
          <p:cNvSpPr/>
          <p:nvPr/>
        </p:nvSpPr>
        <p:spPr>
          <a:xfrm>
            <a:off x="0" y="4076640"/>
            <a:ext cx="7093080" cy="366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 видам экономической деятельности в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201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7"/>
          <p:cNvSpPr/>
          <p:nvPr/>
        </p:nvSpPr>
        <p:spPr>
          <a:xfrm>
            <a:off x="3933000" y="4437000"/>
            <a:ext cx="2276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быча и обогащени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8"/>
          <p:cNvSpPr/>
          <p:nvPr/>
        </p:nvSpPr>
        <p:spPr>
          <a:xfrm>
            <a:off x="3935880" y="4869000"/>
            <a:ext cx="31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рабатывающие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9"/>
          <p:cNvSpPr/>
          <p:nvPr/>
        </p:nvSpPr>
        <p:spPr>
          <a:xfrm>
            <a:off x="3936960" y="5175360"/>
            <a:ext cx="32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изводство 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0"/>
          <p:cNvSpPr/>
          <p:nvPr/>
        </p:nvSpPr>
        <p:spPr>
          <a:xfrm>
            <a:off x="3930120" y="54277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91"/>
          <p:cNvSpPr/>
          <p:nvPr/>
        </p:nvSpPr>
        <p:spPr>
          <a:xfrm>
            <a:off x="3924360" y="5680080"/>
            <a:ext cx="372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муналь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2"/>
          <p:cNvSpPr/>
          <p:nvPr/>
        </p:nvSpPr>
        <p:spPr>
          <a:xfrm>
            <a:off x="3924360" y="595008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/х и лесная промыш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8937720" y="6510240"/>
            <a:ext cx="206280" cy="34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731-262E-4AF3-82A6-71BB370FB1BE}" type="slidenum">
              <a:rPr b="1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CBC9-4A53-49E1-BA95-26DF0A244933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"/>
          <p:cNvSpPr/>
          <p:nvPr/>
        </p:nvSpPr>
        <p:spPr>
          <a:xfrm>
            <a:off x="0" y="67680"/>
            <a:ext cx="9144000" cy="407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ЕКТ ПОПРАВОК В ФЕДЕРАЛЬНЫЕ ЗАКОНЫ №№ 219-ФЗ и 458-Ф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"/>
          <p:cNvSpPr/>
          <p:nvPr/>
        </p:nvSpPr>
        <p:spPr>
          <a:xfrm>
            <a:off x="0" y="766800"/>
            <a:ext cx="89647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О П Р А В К И к проекту федерального закона № 392898-6 «О внесении изменений в статью 16 Федерального закона «Об охране окружающей среды»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684360" y="1450440"/>
            <a:ext cx="81356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усмотрен переходный период до 2017 года в отношении деятельности по регулированию  обращения с 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ится применение коэффициента 0,3 при исчислении платы за негативное воздействие на окружающую среду при размещении собственных отходов на объектах размещения отходов, расположенных на собственных промышленных террит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тировка положений по обучению лиц, допущенных к обращению с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ение отдельных положений в части обеспечения исполнения обязанностей производителей, импортеров  по утилизации отходов от использования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ятся особенности для городов федерального значения при разработке территориальных схем и выбору региональных операторов, если уже имеются долгосрочные контр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станавливаются положения по взиманию платы за сжигание попутного нефтяного газа и по применению коэффициентов экологической знач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http://myprofitinvest.ru/wp-content/uploads/2014/12/galochka1.png"/>
          <p:cNvPicPr/>
          <p:nvPr/>
        </p:nvPicPr>
        <p:blipFill>
          <a:blip r:embed="rId1"/>
          <a:stretch/>
        </p:blipFill>
        <p:spPr>
          <a:xfrm>
            <a:off x="291960" y="1628640"/>
            <a:ext cx="392400" cy="432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4" name="Picture 2" descr="http://myprofitinvest.ru/wp-content/uploads/2014/12/galochka1.png"/>
          <p:cNvPicPr/>
          <p:nvPr/>
        </p:nvPicPr>
        <p:blipFill>
          <a:blip r:embed="rId2"/>
          <a:stretch/>
        </p:blipFill>
        <p:spPr>
          <a:xfrm>
            <a:off x="250920" y="2276640"/>
            <a:ext cx="392040" cy="431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5" name="Picture 2" descr="http://myprofitinvest.ru/wp-content/uploads/2014/12/galochka1.png"/>
          <p:cNvPicPr/>
          <p:nvPr/>
        </p:nvPicPr>
        <p:blipFill>
          <a:blip r:embed="rId3"/>
          <a:stretch/>
        </p:blipFill>
        <p:spPr>
          <a:xfrm>
            <a:off x="250920" y="3357720"/>
            <a:ext cx="392040" cy="431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6" name="Picture 2" descr="http://myprofitinvest.ru/wp-content/uploads/2014/12/galochka1.png"/>
          <p:cNvPicPr/>
          <p:nvPr/>
        </p:nvPicPr>
        <p:blipFill>
          <a:blip r:embed="rId4"/>
          <a:stretch/>
        </p:blipFill>
        <p:spPr>
          <a:xfrm>
            <a:off x="250920" y="4149720"/>
            <a:ext cx="392040" cy="431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7" name="Picture 2" descr="http://myprofitinvest.ru/wp-content/uploads/2014/12/galochka1.png"/>
          <p:cNvPicPr/>
          <p:nvPr/>
        </p:nvPicPr>
        <p:blipFill>
          <a:blip r:embed="rId5"/>
          <a:stretch/>
        </p:blipFill>
        <p:spPr>
          <a:xfrm>
            <a:off x="250920" y="5229360"/>
            <a:ext cx="392040" cy="431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78" name="Picture 2" descr="http://myprofitinvest.ru/wp-content/uploads/2014/12/galochka1.png"/>
          <p:cNvPicPr/>
          <p:nvPr/>
        </p:nvPicPr>
        <p:blipFill>
          <a:blip r:embed="rId6"/>
          <a:stretch/>
        </p:blipFill>
        <p:spPr>
          <a:xfrm>
            <a:off x="250920" y="6021360"/>
            <a:ext cx="392040" cy="4320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4"/>
          <p:cNvSpPr/>
          <p:nvPr/>
        </p:nvSpPr>
        <p:spPr>
          <a:xfrm>
            <a:off x="0" y="580536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0" y="1193760"/>
            <a:ext cx="9142560" cy="324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tran.png"/>
          <p:cNvPicPr/>
          <p:nvPr/>
        </p:nvPicPr>
        <p:blipFill>
          <a:blip r:embed="rId1"/>
          <a:stretch/>
        </p:blipFill>
        <p:spPr>
          <a:xfrm>
            <a:off x="155520" y="-13644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tran.png"/>
          <p:cNvPicPr/>
          <p:nvPr/>
        </p:nvPicPr>
        <p:blipFill>
          <a:blip r:embed="rId2"/>
          <a:stretch/>
        </p:blipFill>
        <p:spPr>
          <a:xfrm>
            <a:off x="155520" y="-13644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tran.png"/>
          <p:cNvPicPr/>
          <p:nvPr/>
        </p:nvPicPr>
        <p:blipFill>
          <a:blip r:embed="rId3"/>
          <a:stretch/>
        </p:blipFill>
        <p:spPr>
          <a:xfrm>
            <a:off x="155520" y="-136440"/>
            <a:ext cx="95400" cy="9504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1"/>
          <p:cNvSpPr/>
          <p:nvPr/>
        </p:nvSpPr>
        <p:spPr>
          <a:xfrm>
            <a:off x="468360" y="1844640"/>
            <a:ext cx="8424720" cy="316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-22680"/>
            <a:ext cx="914400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ДИНАМИКА ОБРАЗОВАНИЯ И УТИЛИЗАЦИИ ТВЕРДЫХ КОММУНАЛЬНЫХ ОТХОДОВ (ТКО) В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7"/>
          <p:cNvSpPr/>
          <p:nvPr/>
        </p:nvSpPr>
        <p:spPr>
          <a:xfrm>
            <a:off x="0" y="836640"/>
            <a:ext cx="4284720" cy="3351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ОССИЙСКАЯ ФЕД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Группа 46"/>
          <p:cNvGrpSpPr/>
          <p:nvPr/>
        </p:nvGrpSpPr>
        <p:grpSpPr>
          <a:xfrm>
            <a:off x="1476360" y="1077840"/>
            <a:ext cx="5904000" cy="3213360"/>
            <a:chOff x="1476360" y="1077840"/>
            <a:chExt cx="5904000" cy="3213360"/>
          </a:xfrm>
        </p:grpSpPr>
        <p:grpSp>
          <p:nvGrpSpPr>
            <p:cNvPr id="69" name="Группа 80"/>
            <p:cNvGrpSpPr/>
            <p:nvPr/>
          </p:nvGrpSpPr>
          <p:grpSpPr>
            <a:xfrm>
              <a:off x="1476360" y="1077840"/>
              <a:ext cx="5832000" cy="2907720"/>
              <a:chOff x="1476360" y="1077840"/>
              <a:chExt cx="5832000" cy="2907720"/>
            </a:xfrm>
          </p:grpSpPr>
          <p:sp>
            <p:nvSpPr>
              <p:cNvPr id="70" name="AutoShape 8"/>
              <p:cNvSpPr/>
              <p:nvPr/>
            </p:nvSpPr>
            <p:spPr>
              <a:xfrm>
                <a:off x="1572840" y="2198520"/>
                <a:ext cx="290160" cy="12758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9"/>
              <p:cNvSpPr/>
              <p:nvPr/>
            </p:nvSpPr>
            <p:spPr>
              <a:xfrm>
                <a:off x="1927800" y="3233160"/>
                <a:ext cx="290160" cy="2412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0"/>
              <p:cNvSpPr/>
              <p:nvPr/>
            </p:nvSpPr>
            <p:spPr>
              <a:xfrm>
                <a:off x="2395440" y="2104560"/>
                <a:ext cx="290160" cy="13698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1"/>
              <p:cNvSpPr/>
              <p:nvPr/>
            </p:nvSpPr>
            <p:spPr>
              <a:xfrm>
                <a:off x="2766240" y="3045240"/>
                <a:ext cx="290160" cy="4291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2"/>
              <p:cNvSpPr/>
              <p:nvPr/>
            </p:nvSpPr>
            <p:spPr>
              <a:xfrm>
                <a:off x="3217680" y="2010600"/>
                <a:ext cx="290160" cy="146376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13"/>
              <p:cNvSpPr/>
              <p:nvPr/>
            </p:nvSpPr>
            <p:spPr>
              <a:xfrm>
                <a:off x="3588840" y="3045240"/>
                <a:ext cx="290160" cy="4291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4"/>
              <p:cNvSpPr/>
              <p:nvPr/>
            </p:nvSpPr>
            <p:spPr>
              <a:xfrm>
                <a:off x="4040280" y="1822320"/>
                <a:ext cx="290160" cy="16520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652040"/>
                  <a:gd name="textAreaBottom" fmla="*/ 1652400 h 165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15"/>
              <p:cNvSpPr/>
              <p:nvPr/>
            </p:nvSpPr>
            <p:spPr>
              <a:xfrm>
                <a:off x="4411080" y="2856960"/>
                <a:ext cx="290160" cy="6174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16"/>
              <p:cNvSpPr/>
              <p:nvPr/>
            </p:nvSpPr>
            <p:spPr>
              <a:xfrm>
                <a:off x="4862520" y="1634400"/>
                <a:ext cx="290160" cy="183996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839960"/>
                  <a:gd name="textAreaBottom" fmla="*/ 1840320 h 183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17"/>
              <p:cNvSpPr/>
              <p:nvPr/>
            </p:nvSpPr>
            <p:spPr>
              <a:xfrm>
                <a:off x="5233680" y="3025800"/>
                <a:ext cx="290160" cy="44856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48560"/>
                  <a:gd name="textAreaBottom" fmla="*/ 448920 h 448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18"/>
              <p:cNvSpPr/>
              <p:nvPr/>
            </p:nvSpPr>
            <p:spPr>
              <a:xfrm>
                <a:off x="1492200" y="1858680"/>
                <a:ext cx="559800" cy="235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52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19"/>
              <p:cNvSpPr/>
              <p:nvPr/>
            </p:nvSpPr>
            <p:spPr>
              <a:xfrm>
                <a:off x="2346840" y="1764360"/>
                <a:ext cx="538200" cy="228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54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AutoShape 20"/>
              <p:cNvSpPr/>
              <p:nvPr/>
            </p:nvSpPr>
            <p:spPr>
              <a:xfrm>
                <a:off x="3153240" y="1705680"/>
                <a:ext cx="516600" cy="2185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57,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21"/>
              <p:cNvSpPr/>
              <p:nvPr/>
            </p:nvSpPr>
            <p:spPr>
              <a:xfrm>
                <a:off x="3975840" y="1500480"/>
                <a:ext cx="559800" cy="258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58,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AutoShape 22"/>
              <p:cNvSpPr/>
              <p:nvPr/>
            </p:nvSpPr>
            <p:spPr>
              <a:xfrm>
                <a:off x="4814280" y="1329480"/>
                <a:ext cx="581400" cy="190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60,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3"/>
              <p:cNvSpPr/>
              <p:nvPr/>
            </p:nvSpPr>
            <p:spPr>
              <a:xfrm>
                <a:off x="1931760" y="2909880"/>
                <a:ext cx="480240" cy="237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8,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24"/>
              <p:cNvSpPr/>
              <p:nvPr/>
            </p:nvSpPr>
            <p:spPr>
              <a:xfrm>
                <a:off x="2750040" y="2733480"/>
                <a:ext cx="525960" cy="218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12,1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25"/>
              <p:cNvSpPr/>
              <p:nvPr/>
            </p:nvSpPr>
            <p:spPr>
              <a:xfrm>
                <a:off x="3583080" y="2733480"/>
                <a:ext cx="525960" cy="275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11,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26"/>
              <p:cNvSpPr/>
              <p:nvPr/>
            </p:nvSpPr>
            <p:spPr>
              <a:xfrm>
                <a:off x="4346640" y="2545560"/>
                <a:ext cx="525960" cy="259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13,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27"/>
              <p:cNvSpPr/>
              <p:nvPr/>
            </p:nvSpPr>
            <p:spPr>
              <a:xfrm>
                <a:off x="5206680" y="2716200"/>
                <a:ext cx="499320" cy="275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10,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28"/>
              <p:cNvSpPr/>
              <p:nvPr/>
            </p:nvSpPr>
            <p:spPr>
              <a:xfrm>
                <a:off x="1476360" y="3455640"/>
                <a:ext cx="838440" cy="51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29"/>
              <p:cNvSpPr/>
              <p:nvPr/>
            </p:nvSpPr>
            <p:spPr>
              <a:xfrm>
                <a:off x="2298600" y="3455640"/>
                <a:ext cx="838440" cy="51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30"/>
              <p:cNvSpPr/>
              <p:nvPr/>
            </p:nvSpPr>
            <p:spPr>
              <a:xfrm>
                <a:off x="3121200" y="3455640"/>
                <a:ext cx="838440" cy="51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31"/>
              <p:cNvSpPr/>
              <p:nvPr/>
            </p:nvSpPr>
            <p:spPr>
              <a:xfrm>
                <a:off x="3943440" y="3455640"/>
                <a:ext cx="838440" cy="277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32"/>
              <p:cNvSpPr/>
              <p:nvPr/>
            </p:nvSpPr>
            <p:spPr>
              <a:xfrm>
                <a:off x="4766040" y="3455640"/>
                <a:ext cx="838440" cy="277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1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6"/>
              <p:cNvSpPr/>
              <p:nvPr/>
            </p:nvSpPr>
            <p:spPr>
              <a:xfrm>
                <a:off x="5743800" y="1509480"/>
                <a:ext cx="290160" cy="19843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1984320"/>
                  <a:gd name="textAreaBottom" fmla="*/ 1984680 h 19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7"/>
              <p:cNvSpPr/>
              <p:nvPr/>
            </p:nvSpPr>
            <p:spPr>
              <a:xfrm>
                <a:off x="6114600" y="3025800"/>
                <a:ext cx="290160" cy="4680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468000"/>
                  <a:gd name="textAreaBottom" fmla="*/ 468360 h 46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22"/>
              <p:cNvSpPr/>
              <p:nvPr/>
            </p:nvSpPr>
            <p:spPr>
              <a:xfrm>
                <a:off x="5720040" y="1184760"/>
                <a:ext cx="581400" cy="2019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66,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2"/>
              <p:cNvSpPr/>
              <p:nvPr/>
            </p:nvSpPr>
            <p:spPr>
              <a:xfrm>
                <a:off x="5646960" y="3475080"/>
                <a:ext cx="838440" cy="51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AutoShape 27"/>
              <p:cNvSpPr/>
              <p:nvPr/>
            </p:nvSpPr>
            <p:spPr>
              <a:xfrm>
                <a:off x="6096240" y="2717640"/>
                <a:ext cx="555120" cy="30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10,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6"/>
              <p:cNvSpPr/>
              <p:nvPr/>
            </p:nvSpPr>
            <p:spPr>
              <a:xfrm>
                <a:off x="6527520" y="1408320"/>
                <a:ext cx="290160" cy="208548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2085480"/>
                  <a:gd name="textAreaBottom" fmla="*/ 2085840 h 2085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6898320" y="3139200"/>
                <a:ext cx="290160" cy="3546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4600"/>
                  <a:gd name="textAreaBottom" fmla="*/ 354960 h 35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99" y="0"/>
                    </a:lnTo>
                    <a:lnTo>
                      <a:pt x="2159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2"/>
              <p:cNvSpPr/>
              <p:nvPr/>
            </p:nvSpPr>
            <p:spPr>
              <a:xfrm>
                <a:off x="6479280" y="1077840"/>
                <a:ext cx="581400" cy="2372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17375e"/>
                    </a:solidFill>
                    <a:latin typeface="Times New Roman"/>
                    <a:ea typeface="Times New Roman"/>
                  </a:rPr>
                  <a:t>67,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32"/>
              <p:cNvSpPr/>
              <p:nvPr/>
            </p:nvSpPr>
            <p:spPr>
              <a:xfrm>
                <a:off x="6430680" y="3475080"/>
                <a:ext cx="838440" cy="5104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01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AutoShape 27"/>
              <p:cNvSpPr/>
              <p:nvPr/>
            </p:nvSpPr>
            <p:spPr>
              <a:xfrm>
                <a:off x="6883920" y="2827440"/>
                <a:ext cx="424440" cy="226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0760" rIns="50760" tIns="50760" bIns="50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9,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3"/>
            <p:cNvSpPr/>
            <p:nvPr/>
          </p:nvSpPr>
          <p:spPr>
            <a:xfrm>
              <a:off x="1836360" y="3914640"/>
              <a:ext cx="3095280" cy="3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бразование ТКО, млн. 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4"/>
            <p:cNvSpPr/>
            <p:nvPr/>
          </p:nvSpPr>
          <p:spPr>
            <a:xfrm>
              <a:off x="5004360" y="3914640"/>
              <a:ext cx="2376000" cy="376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утилизация ТКО,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"/>
            <p:cNvSpPr/>
            <p:nvPr/>
          </p:nvSpPr>
          <p:spPr>
            <a:xfrm>
              <a:off x="4788360" y="3985560"/>
              <a:ext cx="215640" cy="287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6"/>
            <p:cNvSpPr/>
            <p:nvPr/>
          </p:nvSpPr>
          <p:spPr>
            <a:xfrm>
              <a:off x="1620360" y="3986280"/>
              <a:ext cx="215640" cy="2872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599"/>
                  </a:lnTo>
                  <a:lnTo>
                    <a:pt x="0" y="21599"/>
                  </a:lnTo>
                  <a:close/>
                </a:path>
              </a:pathLst>
            </a:cu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Номер слайда 1"/>
          <p:cNvSpPr/>
          <p:nvPr/>
        </p:nvSpPr>
        <p:spPr>
          <a:xfrm>
            <a:off x="69976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2E6B-6FFC-4166-8946-A275A803F94B}" type="slidenum">
              <a:rPr b="1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4889520"/>
          <a:ext cx="8136000" cy="1779480"/>
        </p:xfrm>
        <a:graphic>
          <a:graphicData uri="http://schemas.openxmlformats.org/drawingml/2006/table">
            <a:tbl>
              <a:tblPr/>
              <a:tblGrid>
                <a:gridCol w="4068720"/>
                <a:gridCol w="4067280"/>
              </a:tblGrid>
              <a:tr h="499320">
                <a:tc>
                  <a:txBody>
                    <a:bodyPr lIns="0" rIns="0" tIns="36360" bIns="36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годовой утилизации ТКО от их образующегося объема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ы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36360" bIns="3636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ославская область, Липецкая область, г. Москва, Мурманская область, Кемер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36360" bIns="3636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 до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городская область, Республика Бурятия, Примо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36360" bIns="36360" anchor="b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Санкт-Петербург, Ставропольский край, Республика Башкортостан, Самар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Прямоугольник 48"/>
          <p:cNvSpPr/>
          <p:nvPr/>
        </p:nvSpPr>
        <p:spPr>
          <a:xfrm>
            <a:off x="0" y="4459320"/>
            <a:ext cx="4572000" cy="3351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БЪЕКТЫ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826920" y="1393920"/>
            <a:ext cx="80661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ние системы  регулирования в области обращения с отходами, повышение уровня экологическ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кономического механизма, направленного на сокращение захоронения отходов и вовлечение их в хозяйственный 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ершенствование жилищно-коммунального законодательства  в части обращения с твердыми коммунальными от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рмонизация национального законодательства с решениями и рекомендациями Организации экономического сотрудничества и развития (ОЭСР) в области обращения с отхо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0" y="52920"/>
            <a:ext cx="91440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ЦЕЛИ И НАПРАВЛЕНИЯ РЕАЛИЗАЦИИ ФЕДЕРАЛЬНОГО ЗАКОНА № 458-Ф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КОТЯ\Рабочий стол\знак.png"/>
          <p:cNvPicPr/>
          <p:nvPr/>
        </p:nvPicPr>
        <p:blipFill>
          <a:blip r:embed="rId1"/>
          <a:stretch/>
        </p:blipFill>
        <p:spPr>
          <a:xfrm>
            <a:off x="287280" y="142884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КОТЯ\Рабочий стол\знак.png"/>
          <p:cNvPicPr/>
          <p:nvPr/>
        </p:nvPicPr>
        <p:blipFill>
          <a:blip r:embed="rId2"/>
          <a:stretch/>
        </p:blipFill>
        <p:spPr>
          <a:xfrm>
            <a:off x="291960" y="2436840"/>
            <a:ext cx="540000" cy="54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Documents and Settings\КОТЯ\Рабочий стол\знак.png"/>
          <p:cNvPicPr/>
          <p:nvPr/>
        </p:nvPicPr>
        <p:blipFill>
          <a:blip r:embed="rId3"/>
          <a:stretch/>
        </p:blipFill>
        <p:spPr>
          <a:xfrm>
            <a:off x="287280" y="35924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КОТЯ\Рабочий стол\знак.png"/>
          <p:cNvPicPr/>
          <p:nvPr/>
        </p:nvPicPr>
        <p:blipFill>
          <a:blip r:embed="rId4"/>
          <a:stretch/>
        </p:blipFill>
        <p:spPr>
          <a:xfrm>
            <a:off x="287280" y="4746600"/>
            <a:ext cx="539640" cy="539640"/>
          </a:xfrm>
          <a:prstGeom prst="rect">
            <a:avLst/>
          </a:prstGeom>
          <a:ln w="0">
            <a:noFill/>
          </a:ln>
        </p:spPr>
      </p:pic>
      <p:sp>
        <p:nvSpPr>
          <p:cNvPr id="119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0D59-9530-4C71-92FC-CA182ABDBD39}" type="slidenum">
              <a:rPr b="1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50920" y="1080"/>
            <a:ext cx="8642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ЭТАПЫ ВВЕДЕНИЯ НОРМ ЗАКОНА № 458-Ф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2"/>
          <p:cNvSpPr/>
          <p:nvPr/>
        </p:nvSpPr>
        <p:spPr>
          <a:xfrm>
            <a:off x="371520" y="944640"/>
            <a:ext cx="0" cy="529272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3"/>
          <p:cNvSpPr/>
          <p:nvPr/>
        </p:nvSpPr>
        <p:spPr>
          <a:xfrm>
            <a:off x="14400" y="6221520"/>
            <a:ext cx="7412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98"/>
          <p:cNvSpPr/>
          <p:nvPr/>
        </p:nvSpPr>
        <p:spPr>
          <a:xfrm>
            <a:off x="380880" y="806400"/>
            <a:ext cx="8763120" cy="615240"/>
          </a:xfrm>
          <a:prstGeom prst="rightArrow">
            <a:avLst>
              <a:gd name="adj1" fmla="val 100000"/>
              <a:gd name="adj2" fmla="val 50577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ность производителей, импортеров по утилизации товаров (продукции), понятийный аппарат, отдельные изменения в законодательст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трелка вправо 102"/>
          <p:cNvSpPr/>
          <p:nvPr/>
        </p:nvSpPr>
        <p:spPr>
          <a:xfrm>
            <a:off x="1187280" y="1846440"/>
            <a:ext cx="7956720" cy="647640"/>
          </a:xfrm>
          <a:prstGeom prst="rightArrow">
            <a:avLst>
              <a:gd name="adj1" fmla="val 100000"/>
              <a:gd name="adj2" fmla="val 44479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нзирование деятельности по сбору, транспортированию, обработке, утилизации, обезвреживанию, размещению отходов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IV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опас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07"/>
          <p:cNvSpPr/>
          <p:nvPr/>
        </p:nvSpPr>
        <p:spPr>
          <a:xfrm>
            <a:off x="250920" y="6221520"/>
            <a:ext cx="8820000" cy="0"/>
          </a:xfrm>
          <a:prstGeom prst="line">
            <a:avLst/>
          </a:prstGeom>
          <a:ln w="38160">
            <a:solidFill>
              <a:srgbClr val="77933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3"/>
          <p:cNvSpPr/>
          <p:nvPr/>
        </p:nvSpPr>
        <p:spPr>
          <a:xfrm>
            <a:off x="7667640" y="6205680"/>
            <a:ext cx="73980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2"/>
          <p:cNvSpPr/>
          <p:nvPr/>
        </p:nvSpPr>
        <p:spPr>
          <a:xfrm>
            <a:off x="7983360" y="5573880"/>
            <a:ext cx="0" cy="62676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33"/>
          <p:cNvSpPr/>
          <p:nvPr/>
        </p:nvSpPr>
        <p:spPr>
          <a:xfrm>
            <a:off x="1187280" y="1846440"/>
            <a:ext cx="0" cy="435420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3"/>
          <p:cNvSpPr/>
          <p:nvPr/>
        </p:nvSpPr>
        <p:spPr>
          <a:xfrm>
            <a:off x="539640" y="6221520"/>
            <a:ext cx="129708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.07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37"/>
          <p:cNvSpPr/>
          <p:nvPr/>
        </p:nvSpPr>
        <p:spPr>
          <a:xfrm>
            <a:off x="2124000" y="2565360"/>
            <a:ext cx="0" cy="367200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53"/>
          <p:cNvSpPr/>
          <p:nvPr/>
        </p:nvSpPr>
        <p:spPr>
          <a:xfrm>
            <a:off x="1763640" y="6221520"/>
            <a:ext cx="74160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право 40"/>
          <p:cNvSpPr/>
          <p:nvPr/>
        </p:nvSpPr>
        <p:spPr>
          <a:xfrm>
            <a:off x="2160720" y="2565360"/>
            <a:ext cx="6948360" cy="615240"/>
          </a:xfrm>
          <a:prstGeom prst="rightArrow">
            <a:avLst>
              <a:gd name="adj1" fmla="val 100000"/>
              <a:gd name="adj2" fmla="val 50456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по реформированию системы жилищно-коммунальных услуг и введение института региональных опер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трелка вправо 41"/>
          <p:cNvSpPr/>
          <p:nvPr/>
        </p:nvSpPr>
        <p:spPr>
          <a:xfrm>
            <a:off x="2158920" y="3357720"/>
            <a:ext cx="6985080" cy="1101240"/>
          </a:xfrm>
          <a:prstGeom prst="rightArrow">
            <a:avLst>
              <a:gd name="adj1" fmla="val 100000"/>
              <a:gd name="adj2" fmla="val 27369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система регулирования в области обращения с отходами, новые инструменты регулирования в области обращения с отходами, региональные инструменты по управлению потоками от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44"/>
          <p:cNvSpPr/>
          <p:nvPr/>
        </p:nvSpPr>
        <p:spPr>
          <a:xfrm>
            <a:off x="3924360" y="4330800"/>
            <a:ext cx="0" cy="190656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7"/>
          <p:cNvSpPr/>
          <p:nvPr/>
        </p:nvSpPr>
        <p:spPr>
          <a:xfrm>
            <a:off x="6804000" y="4834080"/>
            <a:ext cx="0" cy="1403280"/>
          </a:xfrm>
          <a:prstGeom prst="line">
            <a:avLst/>
          </a:prstGeom>
          <a:ln w="38160">
            <a:solidFill>
              <a:srgbClr val="92d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право 48"/>
          <p:cNvSpPr/>
          <p:nvPr/>
        </p:nvSpPr>
        <p:spPr>
          <a:xfrm>
            <a:off x="3959280" y="4294080"/>
            <a:ext cx="5184720" cy="371880"/>
          </a:xfrm>
          <a:prstGeom prst="rightArrow">
            <a:avLst>
              <a:gd name="adj1" fmla="val 100000"/>
              <a:gd name="adj2" fmla="val 50346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ты на размещение отдельных видов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3"/>
          <p:cNvSpPr/>
          <p:nvPr/>
        </p:nvSpPr>
        <p:spPr>
          <a:xfrm>
            <a:off x="3564000" y="6221520"/>
            <a:ext cx="7412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3"/>
          <p:cNvSpPr/>
          <p:nvPr/>
        </p:nvSpPr>
        <p:spPr>
          <a:xfrm>
            <a:off x="6443640" y="6221520"/>
            <a:ext cx="74124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право 51"/>
          <p:cNvSpPr/>
          <p:nvPr/>
        </p:nvSpPr>
        <p:spPr>
          <a:xfrm>
            <a:off x="6838920" y="4797360"/>
            <a:ext cx="2305080" cy="554760"/>
          </a:xfrm>
          <a:prstGeom prst="rightArrow">
            <a:avLst>
              <a:gd name="adj1" fmla="val 100000"/>
              <a:gd name="adj2" fmla="val 50515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ы при размещении отх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право 52"/>
          <p:cNvSpPr/>
          <p:nvPr/>
        </p:nvSpPr>
        <p:spPr>
          <a:xfrm>
            <a:off x="8028000" y="5502240"/>
            <a:ext cx="1116000" cy="554760"/>
          </a:xfrm>
          <a:prstGeom prst="rightArrow">
            <a:avLst>
              <a:gd name="adj1" fmla="val 100000"/>
              <a:gd name="adj2" fmla="val 22482"/>
            </a:avLst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эффици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2"/>
          <p:cNvSpPr/>
          <p:nvPr/>
        </p:nvSpPr>
        <p:spPr>
          <a:xfrm>
            <a:off x="7016760" y="6481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2CEA-9B10-4764-8AC5-ABC138E11915}" type="slidenum">
              <a:rPr b="1" lang="ru-RU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755640" y="-35280"/>
            <a:ext cx="8388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  <a:ea typeface="Times New Roman"/>
              </a:rPr>
              <a:t>РЕАЛИЗАЦИЯ ПРИНЦИПА РАСШИРЕННОЙ ОТВЕТСТВЕННОСТИ  ПРОИЗВОДИТЕЛЯ (ИМПОРТЕ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6" descr="PNG изображение,веб-элементы,зелень,кнопки,круг жизни,круги,листья,окружающая среда,природа,проблемы экологии,прозрачный фон,растения,символы,сохранение,сохранение окружающей среды,фрагменты изображений,фрагменты картинок,экология,эмблемы"/>
          <p:cNvPicPr/>
          <p:nvPr/>
        </p:nvPicPr>
        <p:blipFill>
          <a:blip r:embed="rId1"/>
          <a:stretch/>
        </p:blipFill>
        <p:spPr>
          <a:xfrm>
            <a:off x="0" y="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8"/>
          <p:cNvSpPr/>
          <p:nvPr/>
        </p:nvSpPr>
        <p:spPr>
          <a:xfrm>
            <a:off x="324000" y="1806480"/>
            <a:ext cx="3816360" cy="398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финансовая ответствен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9"/>
          <p:cNvSpPr/>
          <p:nvPr/>
        </p:nvSpPr>
        <p:spPr>
          <a:xfrm>
            <a:off x="4802040" y="1805040"/>
            <a:ext cx="4053240" cy="3988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материальная ответствен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18"/>
          <p:cNvSpPr/>
          <p:nvPr/>
        </p:nvSpPr>
        <p:spPr>
          <a:xfrm>
            <a:off x="4932360" y="22780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УТИЛИЗАЦИЯ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1"/>
          <p:cNvSpPr/>
          <p:nvPr/>
        </p:nvSpPr>
        <p:spPr>
          <a:xfrm>
            <a:off x="179280" y="235116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А  ЭКОЛОГИЧЕСКОГО С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6"/>
          <p:cNvSpPr/>
          <p:nvPr/>
        </p:nvSpPr>
        <p:spPr>
          <a:xfrm>
            <a:off x="4500720" y="1701720"/>
            <a:ext cx="0" cy="144000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5"/>
          <p:cNvSpPr/>
          <p:nvPr/>
        </p:nvSpPr>
        <p:spPr>
          <a:xfrm>
            <a:off x="2354760" y="766800"/>
            <a:ext cx="4394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изводители, импортеры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Соединительная линия уступом 17"/>
          <p:cNvCxnSpPr>
            <a:stCxn id="150" idx="2"/>
            <a:endCxn id="145" idx="0"/>
          </p:cNvCxnSpPr>
          <p:nvPr/>
        </p:nvCxnSpPr>
        <p:spPr>
          <a:xfrm rot="5400000">
            <a:off x="3071880" y="325800"/>
            <a:ext cx="640440" cy="232164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triangle" w="lg"/>
          </a:ln>
        </p:spPr>
      </p:cxnSp>
      <p:cxnSp>
        <p:nvCxnSpPr>
          <p:cNvPr id="152" name="Соединительная линия уступом 19"/>
          <p:cNvCxnSpPr>
            <a:stCxn id="150" idx="2"/>
            <a:endCxn id="146" idx="0"/>
          </p:cNvCxnSpPr>
          <p:nvPr/>
        </p:nvCxnSpPr>
        <p:spPr>
          <a:xfrm flipH="1" rot="16200000">
            <a:off x="5371920" y="347040"/>
            <a:ext cx="639000" cy="22773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triangle" w="lg"/>
          </a:ln>
        </p:spPr>
      </p:cxnSp>
      <p:sp>
        <p:nvSpPr>
          <p:cNvPr id="153" name="Прямоугольник 20"/>
          <p:cNvSpPr/>
          <p:nvPr/>
        </p:nvSpPr>
        <p:spPr>
          <a:xfrm>
            <a:off x="1251360" y="1054080"/>
            <a:ext cx="60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 л ь т е р н а т и в н о с т ь       в ы б о р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1"/>
          <p:cNvSpPr/>
          <p:nvPr/>
        </p:nvSpPr>
        <p:spPr>
          <a:xfrm>
            <a:off x="611280" y="400860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ОСПРИРОДНАДЗОР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чет и 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рол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полнения нормативов утилизации, сбор отчетности об исполнении нормативов утилизаци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ирование экологических сборов в 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7"/>
          <p:cNvSpPr/>
          <p:nvPr/>
        </p:nvSpPr>
        <p:spPr>
          <a:xfrm>
            <a:off x="611280" y="54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ТС РОССИИ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передача статистических данных по импорте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2"/>
          <p:cNvSpPr/>
          <p:nvPr/>
        </p:nvSpPr>
        <p:spPr>
          <a:xfrm>
            <a:off x="0" y="3429000"/>
            <a:ext cx="9144000" cy="368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федеральных органов исполнительно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73"/>
          <p:cNvGrpSpPr/>
          <p:nvPr/>
        </p:nvGrpSpPr>
        <p:grpSpPr>
          <a:xfrm>
            <a:off x="8639280" y="6389640"/>
            <a:ext cx="504720" cy="468360"/>
            <a:chOff x="8639280" y="6389640"/>
            <a:chExt cx="504720" cy="468360"/>
          </a:xfrm>
        </p:grpSpPr>
        <p:pic>
          <p:nvPicPr>
            <p:cNvPr id="158" name="Picture 69" descr="http://static.freepik.com/free-photo/icon-arrow-right-green_17-526115806.jpg"/>
            <p:cNvPicPr/>
            <p:nvPr/>
          </p:nvPicPr>
          <p:blipFill>
            <a:blip r:embed="rId2"/>
            <a:stretch/>
          </p:blipFill>
          <p:spPr>
            <a:xfrm>
              <a:off x="8639280" y="6389640"/>
              <a:ext cx="50472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7"/>
            <p:cNvSpPr/>
            <p:nvPr/>
          </p:nvSpPr>
          <p:spPr>
            <a:xfrm>
              <a:off x="8691480" y="6454080"/>
              <a:ext cx="344520" cy="315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C1177E1-B856-4B77-821A-4C8FBBFBDBC4}" type="slidenum">
                <a:rPr b="1" lang="ru-RU" sz="1400" spc="-1" strike="noStrike">
                  <a:solidFill>
                    <a:srgbClr val="000000"/>
                  </a:solidFill>
                  <a:latin typeface="Calibri"/>
                </a:rPr>
                <a:t>&lt;number&gt;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79280" y="9720"/>
            <a:ext cx="8785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ЛАН ПО РЕАЛИЗАЦИИ ФЕДЕРАЛЬНОГО ЗАКОНА ОТ 29 ДЕКАБРЯ 2014 ГОДА № 458-Ф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1208160" y="836640"/>
            <a:ext cx="71294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Console"/>
                <a:ea typeface="Calibri"/>
              </a:rPr>
              <a:t>План по подготовке подзаконных актов Правительства РФ одобрен 09.04.2015(АХ-П9-24п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9600" y="836640"/>
            <a:ext cx="1042920" cy="58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1"/>
          <p:cNvSpPr/>
          <p:nvPr/>
        </p:nvSpPr>
        <p:spPr>
          <a:xfrm>
            <a:off x="70135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408-0BB6-43C2-9478-1A4398EC3661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4"/>
          <p:cNvSpPr/>
          <p:nvPr/>
        </p:nvSpPr>
        <p:spPr>
          <a:xfrm>
            <a:off x="3276720" y="2349360"/>
            <a:ext cx="0" cy="4175280"/>
          </a:xfrm>
          <a:prstGeom prst="line">
            <a:avLst/>
          </a:prstGeom>
          <a:ln w="25560">
            <a:solidFill>
              <a:srgbClr val="4a7eb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5"/>
          <p:cNvSpPr/>
          <p:nvPr/>
        </p:nvSpPr>
        <p:spPr>
          <a:xfrm>
            <a:off x="6300720" y="2349360"/>
            <a:ext cx="0" cy="4175280"/>
          </a:xfrm>
          <a:prstGeom prst="line">
            <a:avLst/>
          </a:prstGeom>
          <a:ln w="25560">
            <a:solidFill>
              <a:srgbClr val="4a7eb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474840" y="17017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природы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1-ая очере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7"/>
          <p:cNvSpPr/>
          <p:nvPr/>
        </p:nvSpPr>
        <p:spPr>
          <a:xfrm>
            <a:off x="3594600" y="169704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строй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2-ая очере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8"/>
          <p:cNvSpPr/>
          <p:nvPr/>
        </p:nvSpPr>
        <p:spPr>
          <a:xfrm>
            <a:off x="6721560" y="169704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С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2-ая очере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152280" y="2475000"/>
            <a:ext cx="319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ение о лицензир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чень товаров, подлежащих ути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тивы ути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вки экологического с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 взимания экологического с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 представления декларации и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 создания ЕГИС У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бованиям к террсхем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0"/>
          <p:cNvSpPr/>
          <p:nvPr/>
        </p:nvSpPr>
        <p:spPr>
          <a:xfrm>
            <a:off x="3276720" y="248904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обращения с ТКО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коммерческ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 конкурсного отбора регоп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 тип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ы накопления 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1"/>
          <p:cNvSpPr/>
          <p:nvPr/>
        </p:nvSpPr>
        <p:spPr>
          <a:xfrm>
            <a:off x="6307200" y="2449440"/>
            <a:ext cx="2728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верждение основ цен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регулирования тариф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контроля тарифной поли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верждение стандартов раскрыт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6"/>
          <p:cNvSpPr/>
          <p:nvPr/>
        </p:nvSpPr>
        <p:spPr>
          <a:xfrm>
            <a:off x="3413520" y="6550200"/>
            <a:ext cx="33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*) ТКО – твердые коммунальные отхо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5811-2F81-46AB-937F-B9D50E7CEA33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2"/>
          <p:cNvSpPr/>
          <p:nvPr/>
        </p:nvSpPr>
        <p:spPr>
          <a:xfrm>
            <a:off x="0" y="1125360"/>
            <a:ext cx="914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вержден распоряжением Правительства РФ о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4.09.201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№ 1886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5"/>
          <p:cNvSpPr/>
          <p:nvPr/>
        </p:nvSpPr>
        <p:spPr>
          <a:xfrm>
            <a:off x="2732040" y="4181400"/>
            <a:ext cx="325764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го групп товаров –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3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6"/>
          <p:cNvSpPr/>
          <p:nvPr/>
        </p:nvSpPr>
        <p:spPr>
          <a:xfrm>
            <a:off x="250920" y="4613400"/>
            <a:ext cx="75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ра и упаков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стекло, цветные металлы, бумага, кар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8"/>
          <p:cNvSpPr/>
          <p:nvPr/>
        </p:nvSpPr>
        <p:spPr>
          <a:xfrm>
            <a:off x="250920" y="4952880"/>
            <a:ext cx="77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упная и мелкая бытовая тех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телевизоры, холодиль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Ч печи, мобильные телефоны, компьютеры, пылесос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9"/>
          <p:cNvSpPr/>
          <p:nvPr/>
        </p:nvSpPr>
        <p:spPr>
          <a:xfrm>
            <a:off x="250920" y="5621400"/>
            <a:ext cx="85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ветительные прибо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лампы люминесцентные ртутьсодержащ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0"/>
          <p:cNvSpPr/>
          <p:nvPr/>
        </p:nvSpPr>
        <p:spPr>
          <a:xfrm>
            <a:off x="250920" y="598176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сходные изделия для а/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шины, филь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21"/>
          <p:cNvSpPr/>
          <p:nvPr/>
        </p:nvSpPr>
        <p:spPr>
          <a:xfrm>
            <a:off x="250920" y="6308640"/>
            <a:ext cx="85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ла тех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"/>
          <p:cNvSpPr/>
          <p:nvPr/>
        </p:nvSpPr>
        <p:spPr>
          <a:xfrm>
            <a:off x="250920" y="47160"/>
            <a:ext cx="8713800" cy="712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еречень готовых товаров, включая упаковку, подлежащих утилизации после утраты ими потребительски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5640480" y="23385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ПОР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5"/>
          <p:cNvSpPr/>
          <p:nvPr/>
        </p:nvSpPr>
        <p:spPr>
          <a:xfrm>
            <a:off x="902880" y="233856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26"/>
          <p:cNvSpPr/>
          <p:nvPr/>
        </p:nvSpPr>
        <p:spPr>
          <a:xfrm>
            <a:off x="4361040" y="2338560"/>
            <a:ext cx="0" cy="1800000"/>
          </a:xfrm>
          <a:prstGeom prst="line">
            <a:avLst/>
          </a:prstGeom>
          <a:ln w="25560">
            <a:solidFill>
              <a:srgbClr val="4a7eb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7"/>
          <p:cNvSpPr/>
          <p:nvPr/>
        </p:nvSpPr>
        <p:spPr>
          <a:xfrm>
            <a:off x="326880" y="274644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 продукции по видам экономической деятельности ОК 034-2014 (КПЕС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8"/>
          <p:cNvSpPr/>
          <p:nvPr/>
        </p:nvSpPr>
        <p:spPr>
          <a:xfrm>
            <a:off x="4572000" y="279720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ная номенклатура внешней экономической деятельности Таможенного союза (ТН ВЭД ЕАЭ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7"/>
          <p:cNvSpPr/>
          <p:nvPr/>
        </p:nvSpPr>
        <p:spPr>
          <a:xfrm>
            <a:off x="0" y="1876320"/>
            <a:ext cx="4356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ходные данные о товарах в Р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26"/>
          <p:cNvSpPr/>
          <p:nvPr/>
        </p:nvSpPr>
        <p:spPr>
          <a:xfrm>
            <a:off x="0" y="736560"/>
            <a:ext cx="9144000" cy="0"/>
          </a:xfrm>
          <a:prstGeom prst="line">
            <a:avLst/>
          </a:prstGeom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C0E1-9774-4DEC-8BB5-16A524276358}" type="slidenum">
              <a:rPr b="1" lang="ru-RU" sz="15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2"/>
          <p:cNvSpPr/>
          <p:nvPr/>
        </p:nvSpPr>
        <p:spPr>
          <a:xfrm>
            <a:off x="0" y="934920"/>
            <a:ext cx="442764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ект акта внесен в Правительство РФ 30.06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6"/>
          <p:cNvSpPr/>
          <p:nvPr/>
        </p:nvSpPr>
        <p:spPr>
          <a:xfrm>
            <a:off x="498600" y="4152960"/>
            <a:ext cx="75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"/>
          <p:cNvSpPr/>
          <p:nvPr/>
        </p:nvSpPr>
        <p:spPr>
          <a:xfrm>
            <a:off x="152280" y="20880"/>
            <a:ext cx="8712360" cy="712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НОРМАТИВЫ УТИЛИЗАЦИИ ОТХОДОВ ОТ ИСПОЛЬЗОВАНИЯ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3"/>
          <p:cNvSpPr/>
          <p:nvPr/>
        </p:nvSpPr>
        <p:spPr>
          <a:xfrm>
            <a:off x="684360" y="6308640"/>
            <a:ext cx="46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лежат пересмотру 1 раз в три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68280" y="1484280"/>
          <a:ext cx="8424720" cy="3843360"/>
        </p:xfrm>
        <a:graphic>
          <a:graphicData uri="http://schemas.openxmlformats.org/drawingml/2006/table">
            <a:tbl>
              <a:tblPr/>
              <a:tblGrid>
                <a:gridCol w="4140360"/>
                <a:gridCol w="1439640"/>
                <a:gridCol w="1224000"/>
                <a:gridCol w="1620720"/>
              </a:tblGrid>
              <a:tr h="387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ГРУПП ТОВ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 УТИЛИЗАЦИИ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екло и изделия из ст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мага и карт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ла техн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пная и мелкая бытовая тех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иэтиленовая тара и упако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ины пневма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кумуля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ра металл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7" name="Прямоугольник 25"/>
          <p:cNvSpPr/>
          <p:nvPr/>
        </p:nvSpPr>
        <p:spPr>
          <a:xfrm>
            <a:off x="4572000" y="934920"/>
            <a:ext cx="457524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ект акта доработан и повторно внесен 11.11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6"/>
          <p:cNvSpPr/>
          <p:nvPr/>
        </p:nvSpPr>
        <p:spPr>
          <a:xfrm>
            <a:off x="4500720" y="981000"/>
            <a:ext cx="0" cy="432000"/>
          </a:xfrm>
          <a:prstGeom prst="line">
            <a:avLst/>
          </a:prstGeom>
          <a:ln w="25560">
            <a:solidFill>
              <a:srgbClr val="4a7eb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myprofitinvest.ru/wp-content/uploads/2014/12/galochka1.png"/>
          <p:cNvPicPr/>
          <p:nvPr/>
        </p:nvPicPr>
        <p:blipFill>
          <a:blip r:embed="rId1"/>
          <a:stretch/>
        </p:blipFill>
        <p:spPr>
          <a:xfrm>
            <a:off x="374760" y="6329520"/>
            <a:ext cx="309600" cy="339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  <p:sp>
        <p:nvSpPr>
          <p:cNvPr id="200" name="Прямоугольник 11"/>
          <p:cNvSpPr/>
          <p:nvPr/>
        </p:nvSpPr>
        <p:spPr>
          <a:xfrm>
            <a:off x="682560" y="53863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ывает решения Правительства РФ, в том числе протокол совещания у Председателя Правительства РФ Д.А.Медведева от 01.06.2015 № ДМ-П13-48пр, и предложения бизнес - 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http://myprofitinvest.ru/wp-content/uploads/2014/12/galochka1.png"/>
          <p:cNvPicPr/>
          <p:nvPr/>
        </p:nvPicPr>
        <p:blipFill>
          <a:blip r:embed="rId2"/>
          <a:stretch/>
        </p:blipFill>
        <p:spPr>
          <a:xfrm>
            <a:off x="374760" y="5661000"/>
            <a:ext cx="309600" cy="339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4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08:55:51Z</dcterms:created>
  <dc:creator>kushnir</dc:creator>
  <dc:description/>
  <dc:language>en-US</dc:language>
  <cp:lastModifiedBy>nefediev</cp:lastModifiedBy>
  <dcterms:modified xsi:type="dcterms:W3CDTF">2015-12-07T07:34:46Z</dcterms:modified>
  <cp:revision>582</cp:revision>
  <dc:subject/>
  <dc:title>Слайд 1</dc:title>
</cp:coreProperties>
</file>